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6.png" ContentType="image/png"/>
  <Override PartName="/ppt/media/image20.png" ContentType="image/png"/>
  <Override PartName="/ppt/media/image7.jpeg" ContentType="image/jpeg"/>
  <Override PartName="/ppt/media/image18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0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1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E84A2-0810-46B4-ADBF-669ECC20499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El Marco promociona el uso del portfolio como 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84D1-880A-4989-9088-26D1572B3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CCB6-1DCB-4F67-AAD1-092F5793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B718-163C-4D3C-9346-5213F8C0D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FF8E-7275-4A04-895D-D39903548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C0A26-7FCE-4733-BC7F-9E4C8204B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E97B1-321E-458E-9C45-C32E4F0F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4ABA5-68D2-43F9-B8F7-4D648F11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09DEB-45CC-4238-AF4D-58624D38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56AE4-9673-4B4B-B474-605EB70F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0955E-0733-4F49-8DBF-1A0E8191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A5E0A-0A65-427E-8639-7F34C5B8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056A-B0F0-43E7-8487-80B29377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9770E-99FC-4D49-85CD-39AA2BF5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08B12-BA24-4215-A4D0-073FBB28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DF4D4-AE77-4269-B222-0F6F6E59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C9F7B-B347-4D61-A4FD-A75B7FAA1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417B2-8453-4FC7-8956-2785B44A6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BF20F-C26D-424E-A4C7-984B5510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35E91-DF01-4D94-B795-CE062FFD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58B48-3F36-4A67-931C-C5E8CA08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FB404-F7F7-46A3-BF49-07AEE951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C0346-811C-49BF-9693-7FA864FE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F14F-CAF3-473D-A021-4AA0ADD5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F4F59-513D-4970-B711-C1FAE79A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7AEEC-9908-4994-A889-2F062C3B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09B63-5D6B-4C0B-8199-B55EF040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168F6-CD90-46F6-A22E-E33011A5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079C9-208D-435C-AB92-1FB3FA3A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65349-85C0-414E-9518-FB031193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306C8-744E-4CF4-9957-DD7F827F9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D030-BA44-4109-9F46-D9542052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886D-F7AF-49B2-96A3-4E52DFD0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47BF-9F16-4B1D-B5D7-79FAB2FC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7B41-7995-4144-83E6-C9259C57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1065-457D-44E5-9F08-66A0F729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3F1D-4BD6-4752-A123-7CF58566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540B66-EDB4-4886-9AC6-5DFF6BB71C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1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1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C38A303-B215-46F4-A5F6-41C8B5792988}" type="slidenum">
              <a:rPr b="0" lang="en-GB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096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5BF75F4-9B22-41DC-BBD8-FD1F61E2BD7F}" type="slidenum">
              <a:rPr b="0" lang="en-GB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4360" y="2420640"/>
            <a:ext cx="785952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ffff00"/>
                </a:solidFill>
                <a:latin typeface="Tahoma"/>
              </a:rPr>
              <a:t>NUESTRO AMIGO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Tahoma"/>
              </a:rPr>
              <a:t>EL PORTFOLIO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1767960"/>
            <a:ext cx="82296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02. FUNCIONES</a:t>
            </a: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DEL P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26920" y="4221000"/>
            <a:ext cx="3095640" cy="19479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5364000" y="4149720"/>
            <a:ext cx="3097440" cy="2019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457200" y="380880"/>
            <a:ext cx="8229600" cy="5792760"/>
            <a:chOff x="457200" y="380880"/>
            <a:chExt cx="8229600" cy="5792760"/>
          </a:xfrm>
        </p:grpSpPr>
        <p:sp>
          <p:nvSpPr>
            <p:cNvPr id="217" name=""/>
            <p:cNvSpPr/>
            <p:nvPr/>
          </p:nvSpPr>
          <p:spPr>
            <a:xfrm>
              <a:off x="457200" y="380880"/>
              <a:ext cx="8229600" cy="5792760"/>
            </a:xfrm>
            <a:prstGeom prst="roundRect">
              <a:avLst>
                <a:gd name="adj" fmla="val 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2769840" y="2058480"/>
              <a:ext cx="1384200" cy="884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1280" y="1197000"/>
              <a:ext cx="2589120" cy="1293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Transpar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en l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ompetenci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2625480" y="3395520"/>
              <a:ext cx="1423800" cy="320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4360" y="3141720"/>
              <a:ext cx="2085840" cy="107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Documen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3130560" y="3760920"/>
              <a:ext cx="1209600" cy="132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79640" y="4653000"/>
              <a:ext cx="2014560" cy="107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nformati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05280" y="3760920"/>
              <a:ext cx="774720" cy="1036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19640" y="4653000"/>
              <a:ext cx="1944720" cy="107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Reflexi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095800" y="3397320"/>
              <a:ext cx="1347840" cy="176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12000" y="2852640"/>
              <a:ext cx="2592360" cy="1293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oncienciad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d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lurilingüísm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992840" y="2131920"/>
              <a:ext cx="1666800" cy="81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72360" y="1197000"/>
              <a:ext cx="1944720" cy="1077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Motivad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572000" y="1627200"/>
              <a:ext cx="1440" cy="11145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08360" y="692280"/>
              <a:ext cx="2158920" cy="107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edagóg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564000" y="2739960"/>
              <a:ext cx="1944720" cy="1077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Funcio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0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 fill="hold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¿PARA QUÉ SIR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ara reflexionar acerca del propio aprendiz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ara autoevalu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ara presentar las habilidades y la certificación del conocimiento de la lengua en cualquier idioma, nivel y manera en que haya sido adqui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duce al EURO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940360" y="4941720"/>
            <a:ext cx="2455920" cy="1366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UTILIDADES DEL PEL PARA EL ALUMN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ermite que el aprendiz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tablezca su nivel de competencia en cada lengua y destr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ga unos niveles comunes de referen-cia para toda 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renda a autoevaluar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 objeividad, ya que su Portfolio se refrendará con certificaciones o entrev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iendo el protagonista en la evaluación de su proceso de aprendiz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 un entrenamiento para su incorporación a la vida laboral (Europass)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000" y="2349000"/>
            <a:ext cx="8218440" cy="27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03. CARACTERÍSTICAS</a:t>
            </a: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Y DOCUMENTOS</a:t>
            </a: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DEL P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03.1. ¿CÓMO ES EL P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ácil de ent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 fácil mane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ertenece al aprend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alidado por el Consejo de Eur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03.2 DOCUMENTOS DEL P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iograf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s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asapo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284720" y="3716280"/>
            <a:ext cx="4038480" cy="2455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03.2.1 BIOGRAF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iario/registro del aprendizaje y uso del idi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flex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03.2.2 DOSSI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tiene el trabajo personal del alum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tenido variable a lo largo del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03.2.3 PASAPOR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rchivo de lo consegu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idencia ofic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rmato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scriptores según el MCER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b0ee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533520" y="380880"/>
            <a:ext cx="8135640" cy="6120000"/>
            <a:chOff x="533520" y="380880"/>
            <a:chExt cx="8135640" cy="6120000"/>
          </a:xfrm>
        </p:grpSpPr>
        <p:sp>
          <p:nvSpPr>
            <p:cNvPr id="176" name=""/>
            <p:cNvSpPr/>
            <p:nvPr/>
          </p:nvSpPr>
          <p:spPr>
            <a:xfrm>
              <a:off x="533520" y="380880"/>
              <a:ext cx="8135640" cy="6120000"/>
            </a:xfrm>
            <a:prstGeom prst="roundRect">
              <a:avLst>
                <a:gd name="adj" fmla="val 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2476440" y="3405240"/>
              <a:ext cx="1370160" cy="3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3520" y="2612880"/>
              <a:ext cx="2089080" cy="15843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uesta 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ráct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37160" y="3860640"/>
              <a:ext cx="6120" cy="98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197160" y="4557600"/>
              <a:ext cx="2808360" cy="183528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0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aracterístic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Y docu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12000" y="3429000"/>
              <a:ext cx="930240" cy="4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26240" y="2684520"/>
              <a:ext cx="1873080" cy="15843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0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Funcio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4637160" y="1674360"/>
              <a:ext cx="1440" cy="101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7520" y="596880"/>
              <a:ext cx="2158920" cy="107784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Géne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981160" y="2541600"/>
              <a:ext cx="3168720" cy="15127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EL PORTFOL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2192040"/>
            <a:ext cx="82296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04. PUESTA</a:t>
            </a: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EN PRÁCTIC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04.1. TIPOS DE PORTFOL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nfant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im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ecund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dul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lectrón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04.2. BIBLIOGRAFÍA BÁS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uías didácticas de cada ni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emoria de experim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forme de experiencia pilo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000" y="464760"/>
            <a:ext cx="84358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04.3 IMPRESIONES MÁS RELEV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yuda al 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feedback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(siempre es alentador)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iene efectos positivos sobre el proceso y el resultado del aprendizaje y la motivación del aprend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avorece en el alumnado una imagen más ajustada de sí mis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04.4 INQUIETU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rabajo y esfuerzo no muy bien entend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¿Hay un balance positivo entre el aporte necesario y los beneficios visibles de trabajar con el P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ea más trabajo para el profe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os alumnos tienden a sobrevalora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04.5 CÓMO ADAPTAR LOS DESCRIPT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º Elegi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iveles relev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º Identificar descriptores correspond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º Adaptar ¿có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binan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vidie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pecific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plific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bin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11280" y="2199960"/>
            <a:ext cx="82296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04.6 ALGUNOS CASOS PRÁCT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560" y="836640"/>
            <a:ext cx="770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01. GÉNESIS DEL PORTFOLI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900000" y="2924280"/>
            <a:ext cx="7353360" cy="3495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01.1. EL CONSEJO DE EUROP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9280" y="2421000"/>
            <a:ext cx="821844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7 PAÍSES deciden construir una gran Europa basada en valores compartidos, incluyendo la tolerancia y el respeto hacia la diversidad cultural y lingüí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164360" y="3716280"/>
            <a:ext cx="576360" cy="1297080"/>
          </a:xfrm>
          <a:prstGeom prst="downArrow">
            <a:avLst>
              <a:gd name="adj1" fmla="val 50000"/>
              <a:gd name="adj2" fmla="val 56262"/>
            </a:avLst>
          </a:prstGeom>
          <a:gradFill rotWithShape="0">
            <a:gsLst>
              <a:gs pos="0">
                <a:srgbClr val="0066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00720" y="4724280"/>
            <a:ext cx="23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43280" y="5084640"/>
            <a:ext cx="1409760" cy="486000"/>
          </a:xfrm>
          <a:prstGeom prst="leftArrow">
            <a:avLst>
              <a:gd name="adj1" fmla="val 50000"/>
              <a:gd name="adj2" fmla="val 72519"/>
            </a:avLst>
          </a:prstGeom>
          <a:gradFill rotWithShape="0">
            <a:gsLst>
              <a:gs pos="0">
                <a:srgbClr val="bbe0e3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4149720"/>
            <a:ext cx="39592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MARCO COMÚN EUROPEO DE REFERENCIA PARA LAS LENGUAS</a:t>
            </a:r>
            <a:br>
              <a:rPr sz="3000"/>
            </a:b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(MCERL)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8569080" cy="720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 fill="hold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dur="indefinite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01.2. EL MCER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stablece escalas que definen la competencia lingüística del usuario. Esas escalas se agrupan en tres nive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427640" y="1628640"/>
            <a:ext cx="4038480" cy="4525920"/>
            <a:chOff x="4427640" y="1628640"/>
            <a:chExt cx="4038480" cy="4525920"/>
          </a:xfrm>
        </p:grpSpPr>
        <p:sp>
          <p:nvSpPr>
            <p:cNvPr id="198" name=""/>
            <p:cNvSpPr/>
            <p:nvPr/>
          </p:nvSpPr>
          <p:spPr>
            <a:xfrm>
              <a:off x="4427640" y="1628640"/>
              <a:ext cx="4038480" cy="4525920"/>
            </a:xfrm>
            <a:custGeom>
              <a:avLst/>
              <a:gdLst>
                <a:gd name="textAreaLeft" fmla="*/ 360 w 4038480"/>
                <a:gd name="textAreaRight" fmla="*/ 4038120 w 4038480"/>
                <a:gd name="textAreaTop" fmla="*/ 360 h 4525920"/>
                <a:gd name="textAreaBottom" fmla="*/ 4525560 h 4525920"/>
              </a:gdLst>
              <a:ahLst/>
              <a:rect l="textAreaLeft" t="textAreaTop" r="textAreaRight" b="textAreaBottom"/>
              <a:pathLst>
                <a:path w="21600" h="24207">
                  <a:moveTo>
                    <a:pt x="8" y="0"/>
                  </a:moveTo>
                  <a:arcTo wR="8" hR="8" stAng="16200000" swAng="-5400000"/>
                  <a:lnTo>
                    <a:pt x="0" y="24199"/>
                  </a:lnTo>
                  <a:arcTo wR="8" hR="8" stAng="10800000" swAng="-5400000"/>
                  <a:lnTo>
                    <a:pt x="21592" y="24207"/>
                  </a:lnTo>
                  <a:arcTo wR="8" hR="8" stAng="5400000" swAng="-5400000"/>
                  <a:lnTo>
                    <a:pt x="21600" y="8"/>
                  </a:lnTo>
                  <a:arcTo wR="8" hR="8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4427640" y="4474440"/>
              <a:ext cx="4038480" cy="1165320"/>
            </a:xfrm>
            <a:custGeom>
              <a:avLst/>
              <a:gdLst>
                <a:gd name="textAreaLeft" fmla="*/ 700920 w 4038480"/>
                <a:gd name="textAreaRight" fmla="*/ 3337560 w 4038480"/>
                <a:gd name="textAreaTop" fmla="*/ 202320 h 1165320"/>
                <a:gd name="textAreaBottom" fmla="*/ 963000 h 116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Usuario bás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5100480" y="3307680"/>
              <a:ext cx="2692440" cy="1166760"/>
            </a:xfrm>
            <a:custGeom>
              <a:avLst/>
              <a:gdLst>
                <a:gd name="textAreaLeft" fmla="*/ 591840 w 2692440"/>
                <a:gd name="textAreaRight" fmla="*/ 2100600 w 2692440"/>
                <a:gd name="textAreaTop" fmla="*/ 256320 h 1166760"/>
                <a:gd name="textAreaBottom" fmla="*/ 910440 h 11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Usuario independie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5773680" y="2142360"/>
              <a:ext cx="1346400" cy="1165320"/>
            </a:xfrm>
            <a:custGeom>
              <a:avLst/>
              <a:gdLst>
                <a:gd name="textAreaLeft" fmla="*/ 483120 w 1346400"/>
                <a:gd name="textAreaRight" fmla="*/ 863280 w 1346400"/>
                <a:gd name="textAreaTop" fmla="*/ 417960 h 1165320"/>
                <a:gd name="textAreaBottom" fmla="*/ 747360 h 116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Usuario exper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0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1000" fill="hold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01.2.1 LOS USU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SUARIO BÁSICO (750-800 PALABRAS)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1: AC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2: PLATAF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SUARIO INDEPENDIENTE (1500)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1: UMB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2: AVAN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SUARIO EXPERTO (3500)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1: DOMI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2: MAEST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01.2.2 LOS NIVE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74898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da nivel recoge una serie de descrip-tores como refer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268360" y="2924280"/>
            <a:ext cx="4543560" cy="360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01.2.3 LOS DESCRIPT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ositivos: “Puedo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ienen una secuencia estándar de anál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barcan todas las habilidades: recepción, producción, interacció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as escalas son independientes: podemos estar en distintos puntos de la escala en las distintas habil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01.2.4 PORTFOLIO EUROPEO DE LAS LENGUAS (PEL)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987640" y="3500280"/>
            <a:ext cx="561672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Herramienta práctica para ayudar a la gente de todas las edades y  orígenes a aprender más lenguas y a conocer más cultur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00000" y="1844640"/>
            <a:ext cx="741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mo aplicación del MCERL nace el P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92360" y="3213000"/>
            <a:ext cx="934920" cy="1862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327600 h 1862280"/>
              <a:gd name="textAreaBottom" fmla="*/ 1344960 h 186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00" stAng="-5400000" swAng="-5400000"/>
                <a:lnTo>
                  <a:pt x="0" y="11800"/>
                </a:lnTo>
                <a:arcTo wR="21600" hR="7600" stAng="10800000" swAng="-2691708"/>
                <a:lnTo>
                  <a:pt x="14400" y="21165"/>
                </a:lnTo>
                <a:lnTo>
                  <a:pt x="21600" y="17300"/>
                </a:lnTo>
                <a:lnTo>
                  <a:pt x="14400" y="12565"/>
                </a:lnTo>
                <a:lnTo>
                  <a:pt x="14400" y="14765"/>
                </a:lnTo>
                <a:arcTo wR="21600" hR="7600" stAng="8108292" swAng="2345122"/>
                <a:lnTo>
                  <a:pt x="841" y="9700"/>
                </a:lnTo>
                <a:arcTo wR="21600" hR="7600" stAng="-10453414" swAng="5053414"/>
                <a:close/>
              </a:path>
              <a:path fill="darkenLess" w="21600" h="21600">
                <a:moveTo>
                  <a:pt x="21600" y="0"/>
                </a:moveTo>
                <a:arcTo wR="21600" hR="7600" stAng="-5400000" swAng="-5400000"/>
                <a:lnTo>
                  <a:pt x="0" y="7600"/>
                </a:lnTo>
                <a:arcTo wR="21600" hR="7600" stAng="10800000" swAng="-346586"/>
                <a:lnTo>
                  <a:pt x="841" y="9700"/>
                </a:lnTo>
                <a:arcTo wR="21600" hR="7600" stAng="-10453414" swAng="505341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dur="indefinite" fill="hold">
                      <p:stCondLst>
                        <p:cond delay="0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 fill="hold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p</dc:creator>
  <dc:description/>
  <dc:language>en-US</dc:language>
  <cp:lastModifiedBy>pep</cp:lastModifiedBy>
  <cp:revision>0</cp:revision>
  <dc:subject/>
  <dc:title>GÉNESIS DEL PORTFOLIO</dc:title>
</cp:coreProperties>
</file>